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21E-DDD2-4ED6-9C57-E838573A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1FC-7B10-4131-82BA-9C6C3B8C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68B-70B2-4172-BC10-4A0AE116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7D5-B28E-45CB-853F-6B4DC5A1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3F27-7A2E-4DA2-9E90-588013A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381-CE78-4034-9988-59B0AB42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2C39-EF4B-4835-BC1C-F1F790F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A6AC-D301-4A8C-A384-575CE2D8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75B1-07D7-4144-AE69-C7888AAD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DF89-A30E-4F7A-94B0-617EF3BE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DC46-F23C-4F2D-9495-AFD5DEE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956-9490-46A7-A9C0-F1A846F6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47D2-D643-440E-9E5E-7C844DCD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E1A1-D623-46EF-80A3-6F80C1E5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4167-AC74-4A31-9151-4FF817C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28F9-4945-48F7-90DC-C7B0E9C8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56EC-5865-4359-804E-BB03D0F2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0A9-13D6-4639-A16A-64C1A056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07F-42A1-400A-B9BE-D6BA4BC6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398-15D2-49D4-84E4-0FF7DDEB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4F5-0CD6-4E90-8A35-BD7378CA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9DC-97DD-42E5-B4B5-3CC36B3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0AD2-5DCE-40F7-BB2E-46DF8B1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9D1-F394-421B-8CB5-087CFFB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577-39AE-4558-B11C-747E0F6586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74E8-F736-44E6-A494-4B16346621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项目二  统计数据的图表描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2637000"/>
            <a:ext cx="77770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力目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根据研究目的进行数据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利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理数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Verdana"/>
                <a:ea typeface="华文新魏"/>
              </a:rPr>
              <a:t>任务引入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某企业人事部门为了制定各类管理、技术人员的职业发展计划和调整员工的薪酬待遇，造就一支业务精干的高素质、高境界、具有高度凝聚力和团队精神的人才队伍，并形成以绩效考核为核心导向的人才管理机制。对全体员工作了全面调查。其中，利用调查表取得以下统计数据，如表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-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示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如果你是这个企业的管理人员，现在需要对这些数据进行分组整理并用统计图表予以展示，以便分析揭示企业员工的性别构成，年龄结构，文化素质、专业技术构成以及各变量之间的内在关系，应从何入手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一    用图表展示定性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8440" y="1752480"/>
            <a:ext cx="7819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性数据的图形展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条形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生成频数分布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定量数据的分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计算全距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数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K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距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d=R/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、确定组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二   用图表展示定量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定量数据的图形展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一）直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二）饼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三）线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（四）散点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学习任务三   用图表展示相关联数据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一、相关联数据的判断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新魏"/>
              </a:rPr>
              <a:t>二、变量因果关系的确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07:51:28Z</dcterms:created>
  <dc:creator>雨林木风</dc:creator>
  <dc:description/>
  <dc:language>en-US</dc:language>
  <cp:lastModifiedBy>hl</cp:lastModifiedBy>
  <dcterms:modified xsi:type="dcterms:W3CDTF">2013-10-13T16:31:03Z</dcterms:modified>
  <cp:revision>10</cp:revision>
  <dc:subject/>
  <dc:title>项目二  统计数据整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